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B1E-952F-4B49-9D97-0829A91E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8DF-63A6-430C-AA26-1EAFC9C4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8E1-05D5-469B-AE16-101222AB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F0B-57DE-4A52-BFFE-34FBBB4C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320-72AC-4982-B689-7A374559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B84-A627-44A8-B3C8-EEFF913A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665-2BF5-42D2-879D-78C4CC9E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9FA-D273-4AAC-A8AB-A52E910A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2F2-3D47-49B4-86F6-C8032C57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8E0-24A0-4C43-823A-BBB9443E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6A5-790E-4472-954E-D41920A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0CC-2EB5-4A55-A560-89C9A4BD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09F1-EA19-4409-AD5F-3FCCFC1C3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nry and Mudg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ob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clo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ho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tho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o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ro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no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cu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go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dro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mul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nry and Mudg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o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cu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rob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nry and Mudge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r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u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mpf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mepl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kateboa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l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the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awo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al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sl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fr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sl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dcterms:modified xsi:type="dcterms:W3CDTF">2008-10-20T11:14:52Z</dcterms:modified>
  <cp:revision>4</cp:revision>
  <dc:subject/>
  <dc:title>The Art Lesson Group A</dc:title>
</cp:coreProperties>
</file>